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FA0-572D-4C79-A12A-29945031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7C2-E41B-478C-94B0-68EA5ADF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704-4997-41D0-BEBF-1C5AE443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911-8EF7-4C8E-B529-82513993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4071-09B7-481A-ADF0-1BBE2FC9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A490-0A5C-4F52-A794-1578D569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D884-BA1F-4426-8451-185288D7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5B34-16CF-4323-9EAF-7995D125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8B24-B2C0-4E13-8D59-EA79F5FB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096-1791-4931-9ADD-533DA6DA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C64F-816D-4FE5-96A1-486AEC05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949-0D9B-4813-A7E3-B3EE701F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D1BC-0EF9-4D21-A229-2D56DA33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5D98-E6BE-4C74-8A04-A97BA282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ECD0-08B0-42AB-A535-C453CEE6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4D2E-E841-49EE-8623-BCFF198B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2011-66A5-4A8E-BDDF-C3E64A23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1E0-7761-4A4B-A240-14F0EEAD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4A1-5C6D-4EED-AA84-5D86349C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2C1-3D41-457F-A676-CDD6C34D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CDC-10B2-4F2A-869A-CCFDF8AD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322-3134-4C5D-B7FB-11E745F9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748-17A3-4790-A0F0-C904A203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998-D2AA-4F57-9EF5-220E1651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C745-4A89-42E9-A213-B19C075096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27CE-F028-43D4-8CCA-98C2E2F5F1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Motivo que provoca la investigaci&#243;n" TargetMode="External"/><Relationship Id="rId2" Type="http://schemas.openxmlformats.org/officeDocument/2006/relationships/hyperlink" Target="258,3,Diapositiva 3" TargetMode="External"/><Relationship Id="rId3" Type="http://schemas.openxmlformats.org/officeDocument/2006/relationships/hyperlink" Target="259,4,Diapositiva 4" TargetMode="External"/><Relationship Id="rId4" Type="http://schemas.openxmlformats.org/officeDocument/2006/relationships/hyperlink" Target="260,5,Resultado final.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7,2,           &#205;tem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7,2,           &#205;tems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57,2,           &#205;tems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dipo, Re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o referente cinematográfic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Ít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Motivo que provoca la investigación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_x000b_</a:t>
            </a:r>
            <a:br>
              <a:rPr sz="2800"/>
            </a:b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Indicios de estar implicado en la investigación._x000b_</a:t>
            </a:r>
            <a:br>
              <a:rPr sz="2800"/>
            </a:b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Resultado final en la investig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Motivo que provoca la investig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 producirá un viaje hacia el conocimiento de la verdad para poder averiguar una acción el pasado que repercutirá tanto en el presente como lo hará en un futur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30840" y="33098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Indicios de estar implicad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 el camino para alcanzar la verdad, se producirá un acontecimiento que provocará que el promotor de la investigación quede implicado en la ac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60640" y="236196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64000" y="2708280"/>
            <a:ext cx="2617920" cy="2938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Resultado final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implicación personal del investigador ha determinado su propio destino; por mucho que un hombre busque la verdad, como Edipo, no logra la felicidad, sino paradójicamente su propia destrucció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60640" y="236196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64000" y="2565360"/>
            <a:ext cx="2433960" cy="31161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referent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trama de Edipo, Rey de Sófocles ha servido en el mundo audiovisual como referente de películas como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Poderosa Afrodita , de Woody All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4300200"/>
            <a:ext cx="76932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2300400" cy="2674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mento, de Christopher Nolan.</a:t>
            </a: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 caja de música , de Costa-gavr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77080" y="1989000"/>
            <a:ext cx="1616040" cy="208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77080" y="4076640"/>
            <a:ext cx="1592280" cy="22338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 chica terrible, de Michael Verhoeven.</a:t>
            </a: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.  Desafío total , de Paul Verhoeven.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re otras del mismo géner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20000" y="2276640"/>
            <a:ext cx="1439640" cy="194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501920" cy="2179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Gracias por su atención.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rina Egea 2ºBachillerato-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34:51Z</dcterms:created>
  <dc:creator>alberto</dc:creator>
  <dc:description/>
  <dc:language>en-US</dc:language>
  <cp:lastModifiedBy>alberto</cp:lastModifiedBy>
  <dcterms:modified xsi:type="dcterms:W3CDTF">2010-04-18T15:36:21Z</dcterms:modified>
  <cp:revision>2</cp:revision>
  <dc:subject/>
  <dc:title>Edipo, Rey</dc:title>
</cp:coreProperties>
</file>